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CB261-3CA1-4E7C-B1DB-73060F17D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B1634-5566-43F2-8A2D-1B833E694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74A6652-8502-46E6-BAE8-09F0A9804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32DDAC7-5417-466E-B78E-2249D87A4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BD36D70-3CF7-41B8-9BF6-371D90406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79DDD64-AA04-482E-B6EB-98A7F6DB3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6D0E24D-9E58-4C2F-B0C9-AAF91CE27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4A739B4-06C0-4390-90CD-491B8491A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F8854FC-14FB-4AF6-9D6E-E36D612C6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A1944A2-7758-4F3F-B24A-756901DF3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E91E9DC-AB97-45C9-8D51-0F23E8AAA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CDBA0-2363-4982-915B-9596B4FE1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C8C1E-6170-4321-947A-DF73AE221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308B13-9C06-4433-A66E-78E39F488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B77462-E12D-44B5-B0BD-CD726652A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2D4AC0-EF86-43E5-83EE-1DE48BF29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75587F-EDBF-44B5-B7B8-9959DECC9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529160-AC1A-4541-87D6-A18B00027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8B03F6-D0F5-4F1A-8AB5-9AF85AF64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1453DA-42DC-446E-9A14-15074C11D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7588F-CB47-4FEF-A31F-069A2B92A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CB7955-4B78-47FF-B261-4E84BA2EC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CFD809-20D7-47F8-9CC1-2E0DED6C0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79827C-E036-4188-B87B-BFF06F83E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C4A644-F8A8-4E87-ABB6-3A4ED7AC5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F8E05B-4884-42EC-9EA0-11BBA79BA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4FA703-9C70-4B59-A939-948E76B7D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643E5A-015E-4265-B8D2-09884E7BD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4DBC7A-14D1-4847-A2A3-5A5FAB18A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530B91-0BF6-4CB2-9EC3-1BD06F970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718151-1EBA-4C98-A62A-5067752F2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3DEA9-DBD4-4F54-9A69-32109F23C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99D030-0D59-4093-8335-2B6AA4EC4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4787B9-86FA-465B-997C-F21A5E411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83C741-E8B7-4DA8-A0DB-0E2F4C68C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2A9EF2-EA77-4FD6-B803-532B4F59D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5C3FDF-86B7-45D6-816F-927D2997E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CFE4A4-CF9F-4BF3-9678-879268030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4954EF-09DC-4D60-8D99-1219A36B4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FFD8F5D-1BF3-451D-A1AE-D16674F6E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DC659FA-1C4D-46CB-A73B-8BE05CFE9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EC88733-320C-4727-895F-AACAFBCBE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A0AAC-A8B9-4295-97AC-74D3EBA4A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1C968EE-F760-4DBB-B05C-E7E309A52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707B272-66A4-44AC-A90A-EF8C0A04B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EBD57AE-3ACF-489E-88F7-703D06574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7A05D40-239B-43EB-9745-441FBF0BF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6E5B523-9DEA-4FE5-A87D-57724BEBC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23E66C7-59E9-4449-A341-A2AFE3751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3F32112-A610-4B7A-8E48-27EB73050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BCBA565-F7B5-4457-874A-212C892D2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33E7B61-94BD-47A2-8072-1B3B8C4A8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770FCC-35CB-4CBE-935A-E70B43183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A5905-0B56-473B-8E51-3B8CFEB36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644655-9A97-4C0F-8F2A-03CA6234D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B6B054-6E75-421C-B1E6-555C3CDBA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5350A5-1ED3-4E82-B8D6-5A4740AA3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C25CB0-3BAD-47D1-9197-2440461CA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4DE79A-DF47-4406-A6B4-95A8024DB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4BB940-C306-4C04-A8C0-A5B8D5038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369EF1-1CE1-4A10-9647-9A999E485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181893-8556-444A-8C80-CA7205728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680302-806F-480E-BB72-D165E6A6F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074E4A-AF04-4CA6-8828-A529BCB8B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59111-B612-45E3-B452-31BA18513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DE6CB0-A7C7-4D99-95B6-C0324846A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203261-61DC-436D-B748-7D8144D35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C6D84C-7ABF-407A-91CD-2540E2475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54E7DA-0B78-4F05-A192-4C833F317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8A50DB-B1AF-42FB-8BAE-6FB635C31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FAF256-E8CA-4D7F-80D1-E62D0856B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38E8F0-21D2-45C7-B194-187F5709A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836412-E8F7-49AE-8074-AA5617A9B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CC9E6F-00F0-4338-B71A-753EFF7B9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5D12E5-227E-4ED6-8238-08AA6BB51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0B9BC-78CA-45A3-BA84-9DEE7952B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65D333-71AB-47B0-849D-846C1DFD4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3A04A4-8C5E-4E52-B134-17B018019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D30197-B9B2-4900-8EDD-5A1FA55B3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589F3B-43DC-42A5-BCA5-57ABFE5AE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64E85D-9596-4C53-A4C6-C74EE66ED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8C5730-9ED7-40F8-9B6E-4AB41F28D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A7DB31-F92A-4B66-9003-ABBCE6A79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713A36-7CCA-4E01-960F-AFCA03E6A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CED8D9-A99C-4D5F-8840-961E81D63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1F4AAB-3B3F-42FF-BA00-AD98D6D09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21F41-5B01-4694-9702-97BAB1AF3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5B815E-DB9C-47F4-ACC6-9621200ED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6BB249-BCFB-43C3-AE82-3973AA74C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560A93-F507-4075-99F2-0933B548A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50E340-1608-45B4-968A-C8BE7B785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0D1B47-9D2A-400B-9A05-06D24012B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CFA9438-1E75-4F04-A3C0-059BE08C5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7DE8EB8-30F6-480F-94F1-6C081D4EE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7325598-11BE-453E-90B5-194DF8DE7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0F16B3B-1E94-4C59-98E6-A0056D806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1AB2E01-7A7D-4595-8BD8-A9EDF4886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6118E-F1F8-4D93-8B57-8BA7E20E3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C9A691D-54E4-4506-A684-7FBE6C645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C2E13E6-0CA5-4E53-AE82-3A4343B35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40FC1A3-5E87-409D-9429-89AB25731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14788DB-E067-4F26-A612-0F78FED8F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DD9A943-3977-4A48-A1C1-B214A0DFF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415BAAA-5534-4898-B0AF-75E7D564A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67B48F2-EB32-4916-B056-EA107AE90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54F783C-EF8E-4180-89E5-FD28007E8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5CCBA9E-3923-43CD-9BF9-C04BD93BC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AAADD5A-DA50-4B26-A5F1-0FA0A59A0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E3DFB-42BE-462A-BCE5-B9E995AA6E5A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대각선 방향의 모서리가 둥근 사각형 7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45" name="대각선 방향의 모서리가 둥근 사각형 7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F4526-36C3-40CC-ABE9-D46FF1A89F71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89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91" name="직사각형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3E7D2-CE54-4E05-9966-A8C9FD91C880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직사각형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ABC02-E41B-4B27-B4B1-4D6BF892A99E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76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178" name="직사각형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6E38C-5303-4F34-B954-6D9189A2F7D7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21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223" name="직사각형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4" name="직사각형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32E74-AB7C-470E-BA66-550B287DD03B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67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269" name="직사각형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ED715-0F8B-4D57-A0ED-A6D55AFAE1DD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직사각형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04E16-9F10-4366-B4C1-D551CF8FAFA7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DE230-7B67-462A-9A44-D502774293D4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Rectangle 2" descr=""/>
          <p:cNvPicPr/>
          <p:nvPr/>
        </p:nvPicPr>
        <p:blipFill>
          <a:blip r:embed="rId1"/>
          <a:stretch/>
        </p:blipFill>
        <p:spPr>
          <a:xfrm>
            <a:off x="457200" y="378000"/>
            <a:ext cx="8418600" cy="2232000"/>
          </a:xfrm>
          <a:prstGeom prst="rect">
            <a:avLst/>
          </a:prstGeom>
          <a:ln w="0">
            <a:noFill/>
          </a:ln>
        </p:spPr>
      </p:pic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2133360" y="2819520"/>
            <a:ext cx="6559560" cy="1752480"/>
          </a:xfrm>
          <a:prstGeom prst="rect">
            <a:avLst/>
          </a:prstGeom>
          <a:noFill/>
          <a:ln w="0">
            <a:noFill/>
          </a:ln>
        </p:spPr>
        <p:txBody>
          <a:bodyPr lIns="45720" rIns="246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7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조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김효나 김규빈 정나훈 신동현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제목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 txBox="1"/>
          <p:nvPr/>
        </p:nvSpPr>
        <p:spPr>
          <a:xfrm>
            <a:off x="428760" y="357120"/>
            <a:ext cx="822960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우리 나라의 목재공업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6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부터 공업발전과 수출증대를 위한 전략산업으로 육성되어 지속적인 발전을 이룩해 왔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공업의 산업동향은 주요 원자재인 원목의 확보와 건축경기에 따라 크게 좌우되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최근 자원보유국의 자원보호 및 공업화 정책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석유에너지에 대한 대체 자원으로서 목재의 재평가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자원의 지역 편재 등으로 인하여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국내 목재수요의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95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％ 이상을 외재에 의존하고 있는 우리 나라로서는 앞으로 지속적이고 안정적인 목재 수급이 중요한 과제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목재공업의 대표적인 산업으로 여겨지던 합판공업이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이후 지속적으로 쇠퇴하면서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공업은 보드류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가구나 악기 등의 제조업과 함께 목제품의 종합적인 수요처인 목조주택의 비중이 증가하고 있는 실정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 txBox="1"/>
          <p:nvPr/>
        </p:nvSpPr>
        <p:spPr>
          <a:xfrm>
            <a:off x="324000" y="47592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광복 이전의 우리 나라 목재공업은 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1909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년 통감부 영림서에 의하여 관영제재사업으로 시작되었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당시의 관영제재사업은 신의주 영림서의 경영하에 주로 군수용을 비롯한 연초포장상자 또는 침목 등의 공급을 맡았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광복 이전의 목재공업은 오늘날의 기준으로 보면 대체로 원시적인 제재형태를 벗어나지 못한 소규모의 수공업형태를 이루었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광복 후 무질서한 산림남벌로 인한 원목공급량의 격증과 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6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25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전쟁 이후 주택을 비롯한 각종 산재 복구사업 및 인구증가에 힘입어 제재업이 급속히 성장하여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1960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년대 초까지 목재공업이 주류를 이루어 왔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 txBox="1"/>
          <p:nvPr/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합판은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54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 동명목재와 일부 영세업체에 의하여 생산되기 시작하였으며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1958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 이후 국내 건축경기의 상승 및 수출수요증가에 힘입어 생산능력도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54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의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8,000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만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에서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6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에는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5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억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로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5.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배 증가하였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64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부터 합판공업은 수출특화산업으로 지정되어 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7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까지 생산과 수출에 있어서 연평균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30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％ 이상의 급속한 신장세를 보였으며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197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까지 제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위의 합판수출국으로 성장하였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그러나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대에 들어 합판공업은 원가상승과 인도네시아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말레이시아 등 동남아의 후발 합판생산국들이 저렴한 가격을 바탕으로 세계합판시장에 본격적으로 진출함으로써 수출의 대부분을 가공도가 낮은 보통합판에 의존하고 있는 국산합판의 수출이 급격히 감소하게 되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 txBox="1"/>
          <p:nvPr/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국내 목재산업구조의 변화는 양질의 원목가격 상승 및 해외 적정 원목 확보의 어려움과 해외 산림자원국의 원목생산 및 수출 금지와 자국 생산 목가공재의 수출전략화 정책 등으로 국내 목재산업은 수출에서 내수용 생산으로 전환되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95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 현재 우리 나라 목재공업 관련 업체수는 국내 목제품 제조업체의 수출경쟁력을 상실한 상태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이들 목재산업이 안고 있는 문제점을 요약해 보면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원목의 높은 해외의존도 및 원목확보난의 심화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원목 산지국의 합판수출국화에 따른 국제경제력 약화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수출시장의 협소 및 편중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낮은 외화가득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업계의 재무구조 취약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후반부터 통나무집과 경골 목조주택이 보급되기 시작하면서 목조주택을 비롯한 목조건축산업은 목제품의 대량 공급처로서 가능성이 매우 높아 국민의 관심을 끌고 있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6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초부터 전성기를 맞아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까지 국민경제에 크게 기여해왔던 목재공업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9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에 들어 상당히 위축되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특히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합판공업은 소요 원목을 전량 수입에 의존하는 구조적인 취약점을 가지고 있어  문제가 심각하였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Rectangle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원목의 높은 해외의존도 및 원목확보난의 심화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원목 산지국의 합판수출국화에 따른 국제경제력 약화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수출시장의 협소 및 편중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낮은 외화가득률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업계의 재무구조 취약 등을 들 수 있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이러한 문제점을 해결하지 못한다면 결국 목재산업의 사양화는 불가피할 것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Rectangle 2" descr=""/>
          <p:cNvPicPr/>
          <p:nvPr/>
        </p:nvPicPr>
        <p:blipFill>
          <a:blip r:embed="rId1"/>
          <a:stretch/>
        </p:blipFill>
        <p:spPr>
          <a:xfrm>
            <a:off x="450720" y="-85680"/>
            <a:ext cx="8455320" cy="78732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 txBox="1"/>
          <p:nvPr/>
        </p:nvSpPr>
        <p:spPr>
          <a:xfrm>
            <a:off x="357120" y="620640"/>
            <a:ext cx="822960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첫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정부와 업계가 공동으로 해외임지확보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산림개발을 위한 조사 및 외교를 강화하여야 할 것이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둘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제재의 수율증대를 위한 기술개발 및 국산 소경목을 이용한 목재제품 개발과 고급가공합판 중심으로의 생산체제 전환 등이 시급히 요청된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셋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생산시설을 합리적으로 조정하여 과당경쟁을 배제함으로써 생산협력체제를 구축하고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가구산업 등에서 다품종 소량생산 체계를 갖추어 경쟁력을 확보하는 것이 필요하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넷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장기적인 목재자급기반의 구축을 위하여 국내산림자원의 효율적 경영 및 국산재의 고부가가치 이용기술 개발이 요구된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Rectangle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우리 나라에서 산림녹화를 통하여 조성된 조림지에서 생산되는 간벌재를 비롯한 중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소경제의 생산잠재력이 증가하고 있고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최근 진행되고 있는 생명의 숲가꾸기 사업 등의 본격적인 추진과 관련하여 국산재의 자급률이 차츰 높아질 것으로 기대되고 있다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Rectangle 2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455320" cy="1433520"/>
          </a:xfrm>
          <a:prstGeom prst="rect">
            <a:avLst/>
          </a:prstGeom>
          <a:ln w="0">
            <a:noFill/>
          </a:ln>
        </p:spPr>
      </p:pic>
      <p:sp>
        <p:nvSpPr>
          <p:cNvPr id="397" name=""/>
          <p:cNvSpPr txBox="1"/>
          <p:nvPr/>
        </p:nvSpPr>
        <p:spPr>
          <a:xfrm>
            <a:off x="468360" y="1413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우리나라의 토지 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65%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가 산림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하지만 목재 자급률은 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10%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미만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국산재의 지속적 지급이 필요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최근 환경에 대한 관심의 증가 및 탄소 배출권 등으로 목재산업과 산림업이 새롭게 관심을 받고 있다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산림청을 비롯한 산림조합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목재업계 관계자들이 최근 ‘목재의 지속 가능한 이용에 관한 법률안’을 대표 발의한 황영철 의원을 방문해 목재산업 진흥을 위한 발전방안을 논의했다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 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이 자리에서 ‘목재의 지속가능한 이용에 관한 법률’이 </a:t>
            </a:r>
            <a:r>
              <a:rPr b="0" lang="ko-KR" sz="3200" spc="-1" strike="noStrike">
                <a:solidFill>
                  <a:srgbClr val="00b0f0"/>
                </a:solidFill>
                <a:latin typeface="새굴림"/>
                <a:ea typeface="새굴림"/>
              </a:rPr>
              <a:t>목재산업 발전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에 초석이 될 것이라며 목조건축을 포함한 목재산업은 다른 분야에 비해 고용창출 효과가 크며 </a:t>
            </a:r>
            <a:r>
              <a:rPr b="0" lang="ko-KR" sz="3200" spc="-1" strike="noStrike">
                <a:solidFill>
                  <a:srgbClr val="00b0f0"/>
                </a:solidFill>
                <a:latin typeface="새굴림"/>
                <a:ea typeface="새굴림"/>
              </a:rPr>
              <a:t>국산 목재를 이용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할 경우 </a:t>
            </a:r>
            <a:r>
              <a:rPr b="0" lang="ko-KR" sz="3200" spc="-1" strike="noStrike">
                <a:solidFill>
                  <a:srgbClr val="00b0f0"/>
                </a:solidFill>
                <a:latin typeface="새굴림"/>
                <a:ea typeface="새굴림"/>
              </a:rPr>
              <a:t>탄소배출권을 확보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하는 등 전망이 밝은 분야임을 강조했다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제목 1" descr=""/>
          <p:cNvPicPr/>
          <p:nvPr/>
        </p:nvPicPr>
        <p:blipFill>
          <a:blip r:embed="rId1"/>
          <a:stretch/>
        </p:blipFill>
        <p:spPr>
          <a:xfrm>
            <a:off x="450720" y="-96840"/>
            <a:ext cx="8491680" cy="15048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열악한 국내 목재산업을 획기적으로 키우기 위해 산림청은 지난 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1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월 국산목재 이용확대와 목재산업기반 구축 등을 골자로 하는 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'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목재산업진흥 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5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개년 종합계획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'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을 발표했다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이 계획은 </a:t>
            </a:r>
            <a:r>
              <a:rPr b="0" lang="ko-KR" sz="4000" spc="-1" strike="noStrike">
                <a:solidFill>
                  <a:srgbClr val="00b0f0"/>
                </a:solidFill>
                <a:latin typeface="Rockwell"/>
              </a:rPr>
              <a:t>우리 정부가 사실상 최초로 마련한 목재산업 관련 마스터플랜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이다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Rectangle 8" descr=""/>
          <p:cNvPicPr/>
          <p:nvPr/>
        </p:nvPicPr>
        <p:blipFill>
          <a:blip r:embed="rId1"/>
          <a:stretch/>
        </p:blipFill>
        <p:spPr>
          <a:xfrm>
            <a:off x="450720" y="-12600"/>
            <a:ext cx="8455320" cy="78732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 txBox="1"/>
          <p:nvPr/>
        </p:nvSpPr>
        <p:spPr>
          <a:xfrm>
            <a:off x="457200" y="76500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제안이유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기후변화 협약 이행을 위한 </a:t>
            </a:r>
            <a:r>
              <a:rPr b="0" lang="ko-KR" sz="2800" spc="-1" strike="noStrike">
                <a:solidFill>
                  <a:srgbClr val="00b0f0"/>
                </a:solidFill>
                <a:latin typeface="Rockwell"/>
              </a:rPr>
              <a:t>탄소저감 방안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의 하나로 목재이용을 증진하고 국제적인 목재자원 보호정책에 대응하기 위해 국산재의 지속적인 공급확대가 절실히 요구되고 있음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현행법은 일부에서 품질관리 및 인증제도를 시행할 수 있도록 규정하고 있을 뿐 목재이용에 대한 인식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다음 세대를 위한 전통 목재문화 계승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교육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품질향상을 통한 산업경쟁력 강화 등 목재이용 전반에 관한 적극적 홍보 및 체계적인 지원 기반이 부족한 실정임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이에 정확한 목재이용 실태조사를 통하여 </a:t>
            </a:r>
            <a:r>
              <a:rPr b="0" lang="ko-KR" sz="2800" spc="-1" strike="noStrike">
                <a:solidFill>
                  <a:srgbClr val="00b0f0"/>
                </a:solidFill>
                <a:latin typeface="Rockwell"/>
              </a:rPr>
              <a:t>목재문화 진흥 및 목재이용 활성화 사업을 체계적으로 지원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함으로써 국민의 삶의 질 향상에 기여하고 목재의 지속가능한 이용을 도모하려는 것임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455320" cy="79236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 txBox="1"/>
          <p:nvPr/>
        </p:nvSpPr>
        <p:spPr>
          <a:xfrm>
            <a:off x="500040" y="131400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'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목재산업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'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우리에겐 비중 있게 와닿지 않는 산업분야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한국전쟁을 겪으며 벌거숭이가 됐던 산야를 녹화하기 위해 뒤도 돌아보지 않고 달려만 왔을 뿐 나무를 본격적으로 활용하는데 대한 고민이 적어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따라서 국내 목재산업의 기반은 아직까지 미미한 수준에 머물고 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하지만 최근 목재생산국들의 원목수출금지 조치 등 목재자원주권화 경향과 지구온난화 등으로 목재의 경제적 중요성이 높아지면서 국내 목재산업 인프라를 키워야 한다는 목소리가 높아지고 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정부도 국내 산림자원량이 성숙단계에 왔다고 판단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목재산업 활성화를 통해 기후변화 및 자유무역협정 등에 적극 대처해 나간다는 방침이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Rectangle 2" descr=""/>
          <p:cNvPicPr/>
          <p:nvPr/>
        </p:nvPicPr>
        <p:blipFill>
          <a:blip r:embed="rId1"/>
          <a:stretch/>
        </p:blipFill>
        <p:spPr>
          <a:xfrm>
            <a:off x="450720" y="-66600"/>
            <a:ext cx="8541000" cy="98748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 txBox="1"/>
          <p:nvPr/>
        </p:nvSpPr>
        <p:spPr>
          <a:xfrm>
            <a:off x="457200" y="907560"/>
            <a:ext cx="829152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우리나라는 지난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60~19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목재산업의 비중이 상대적으로 컸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당시에는 정부 차원에서 수출장려와 고용창출을 위해 목재 가공무역을 활성화하면서 수출 효자상품으로 각광받기도 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그러나 제조업 전반이 발전하지 못한 시절이어서 목재산업이 경제에서 차지하는 비중만 컸을 뿐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이마저도 이후 개발도상국들의 원목수출 금지정책과 건설경기불황 및 수입목재가격 상승이 맞물리면서 국내 목재산업은 침체기로 접어들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여기에 숲가꾸기와 조림 등 산림보호와 육성에 초점이 맞춰진 산림정책도 목재산업 경쟁력 약화의 원인이 됐다는 분석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산림청에 따르면 국내에서는 목재가공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제지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가구 등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3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개 부문으로 분류되는 목재 산업계에는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009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 현재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300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여개 관련업체가 있으며 종사자는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8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만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00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여명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연간 생산액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4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조원 규모로 국내 제조업 전체 생산액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(1122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조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98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억원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)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의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.1%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에 그치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국내 전체 목제품에 사용되는 국산 원목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01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 말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3.5%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에 머물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특히 국산 목제품의 양은 국내 전체 목재 수요량의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6%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에 불과하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Rectangle 2" descr=""/>
          <p:cNvPicPr/>
          <p:nvPr/>
        </p:nvPicPr>
        <p:blipFill>
          <a:blip r:embed="rId1"/>
          <a:stretch/>
        </p:blipFill>
        <p:spPr>
          <a:xfrm>
            <a:off x="390600" y="182520"/>
            <a:ext cx="8540640" cy="116532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 txBox="1"/>
          <p:nvPr/>
        </p:nvSpPr>
        <p:spPr>
          <a:xfrm>
            <a:off x="456840" y="1483920"/>
            <a:ext cx="843588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상업용으로 쓰이는 목재는 그 목적에 따라서 여러 가지로 분류할 수 있는데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일반적으로 목재에는 통나무와 제재목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製材木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이 포함된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ffff"/>
                </a:solidFill>
                <a:uFillTx/>
                <a:latin typeface="Rockwell"/>
              </a:rPr>
              <a:t>목재의 종류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를 형상에 따라 분류하면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① </a:t>
            </a:r>
            <a:r>
              <a:rPr b="1" lang="ko-KR" sz="2800" spc="-1" strike="noStrike">
                <a:solidFill>
                  <a:srgbClr val="ffffff"/>
                </a:solidFill>
                <a:latin typeface="Rockwell"/>
              </a:rPr>
              <a:t>소재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：보통 통나무라고 부르는 것의 총칭으로 아무런 가공을 하지 않거나 거칠게 가공한 목재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② </a:t>
            </a:r>
            <a:r>
              <a:rPr b="1" lang="ko-KR" sz="2800" spc="-1" strike="noStrike">
                <a:solidFill>
                  <a:srgbClr val="ffffff"/>
                </a:solidFill>
                <a:latin typeface="Rockwell"/>
              </a:rPr>
              <a:t>제재목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：통나무 등 원목에 톱을 대어 가공한 것으로 크게 판재류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각재류의 두 종류로 구분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③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합판과 단판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섬유판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파티클보드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</a:t>
            </a:r>
            <a:r>
              <a:rPr b="1" lang="ko-KR" sz="2800" spc="-1" strike="noStrike">
                <a:solidFill>
                  <a:srgbClr val="ffffff"/>
                </a:solidFill>
                <a:latin typeface="Rockwell"/>
              </a:rPr>
              <a:t>＊</a:t>
            </a:r>
            <a:r>
              <a:rPr b="1" lang="en-US" sz="2800" spc="-1" strike="noStrike">
                <a:solidFill>
                  <a:srgbClr val="ffffff"/>
                </a:solidFill>
                <a:latin typeface="Rockwell"/>
              </a:rPr>
              <a:t>OSB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공학목재 등이 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목재는 지구상 유일한 재생산 가능한 천연재료로서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인류가 살아가는 거의 모든 용도에 널리 이용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오랫동안 한옥형태의 목조주택을 위주로 한 주거문화로 발전하여 왔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.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 txBox="1"/>
          <p:nvPr/>
        </p:nvSpPr>
        <p:spPr>
          <a:xfrm>
            <a:off x="395280" y="69192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는 다른 재료에서 볼 수 없는 우수한 재료적 특성 때문에 여전히 우리 생활의 많은 부분에서 필수 재료로서 쓰이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오늘날 목재의 대표적인 용도를 살펴보면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건축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가구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포장상자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차량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갱목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침목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전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악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운동기구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합판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집성재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연료 등에 이르기까지 매우 다양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를 활용하여 최근에 개발한 첨단 재료는 이전까지 사용되던 재료와는 판이한 새로운 개념의 재료가 사용되고 있거나 개발되고 있어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의 부가가치를 높이는 데 기여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와 관련한 산업활동은 넓은 의미에서 소재생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 및 임산제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유통 등을 포함한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노동집약적이고 수송비와 보관비 등이 큰 특징을 가지고 있으며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나 보드류 산업 등의 경우 초기 투자비용이 큰 장치산업적 특징을 가지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공업은 제재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제품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합판 등 보드류 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기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종이 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조주택 등의 산업활동을 총칭하는 것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8T09:10:03Z</dcterms:created>
  <dc:creator>admin</dc:creator>
  <dc:description/>
  <dc:language>en-US</dc:language>
  <cp:lastModifiedBy>com</cp:lastModifiedBy>
  <dcterms:modified xsi:type="dcterms:W3CDTF">2012-05-22T03:36:57Z</dcterms:modified>
  <cp:revision>24</cp:revision>
  <dc:subject/>
  <dc:title>환경재료학 목재산업</dc:title>
</cp:coreProperties>
</file>