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01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47E5D-37C6-4A5F-841E-61D1C7571828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BD3A2-6BAC-4D75-BCDC-EB290E57F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83981-0587-4CA5-9E0A-5C88C05FF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3D9181-C8B2-42E8-8C21-2F816B1EE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ED13DF-76A8-440D-AF04-F189B26B7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D8E46A-47EF-43B1-9E22-8BAFD8CBF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938C73-3D25-414B-B641-985D78E99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63F9AC-71FF-4D42-B208-BCB05D7E8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42B9E7-0CBE-4FD0-A92E-6809DE326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7D823A-5545-4A3E-AB64-50BC89EFE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86190F-145A-4FFF-A41E-1B92D6F47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60A4B8-3469-4C02-B7C9-A8890869B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7E91D8-EA6F-4DF8-8F5D-4190AA3A1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C2E45-8033-4006-81CE-B6B2CF3ED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A79BCE-53AB-4B73-944E-49AE878DF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3AF78E-7773-4F98-B07B-66446CB90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A6EDFE-55D0-4D25-8602-8EDF16A78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C538CE-303C-41B1-A13F-5CB333478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F126DA-9219-4A28-9B61-9A509B404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5CBE7E-2A5F-44B7-B472-483AC3F11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96C60E-9729-40F8-B354-CA747E2E4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C11731-5D74-443B-8724-09C796537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9ABFE9-1D60-4265-A9DB-17EDEB63F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D03C4D-D5E7-4E03-92DF-173DAAEC6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01622-F4A6-4462-A347-B00EBC6DD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8FBCF7-F840-4A70-B618-F3FC3B5CA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56F692-37D6-4460-8A55-D69EABA6C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EFDCEA-6E9E-4109-9DBF-FB09E41C6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6B26A8-C364-4BB0-BF37-C0A4D8638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88ED4F-EA6A-4265-9292-2E190E490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3218D8-8CA0-4929-A79A-175CF163A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B397D2-EDF1-4C24-BCF4-DE5C33418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E3443F-0877-49A0-86DD-E07B6F66B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962EE8-07FA-4294-8459-2072B81A4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319413-8A8B-4F19-8E70-DBDAB8A08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CFDB4-4253-40DB-9A83-33229C456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66C975-84C5-405F-850E-825D2E728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41E897-FE14-47FF-9F66-DC551368B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3335B1-536A-44B9-B1A5-B730E0DCA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921700-996B-4114-8E28-EB4ABFF9E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5C57D0-FBEF-4144-92F7-C375BF482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3F6C9C-8010-4730-A047-E0E00FD57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D955CB-380E-4D30-AE67-398ECD3E6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26C84C-D11B-4C0C-B433-7CF89BD58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C7B3FA-02E5-48EF-8422-8BE2E714C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8467B5-DE1C-4C00-8052-B44836E08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411F9-7FD5-476F-8E47-6029A238E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352F8F-69D3-4325-809C-6576F063E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2C09D9-77F2-4D49-8F14-67D729E96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69A306-8BF9-4626-A401-EEB3E63FB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77C1B4-DA9E-4AD4-88C3-0FD96A5F4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1BFDE2-1745-4F09-A966-6F2D26B98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B1AAB3D-7FE2-413A-95EB-139FA883C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A4E5240-9A1E-4E13-B384-585B37B67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418C2DD-2BED-444D-BD5E-33DE3A9F7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3019D65-DC59-4500-9E75-068A3BE3D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59540B5-F132-4F7E-8AA1-65B7D6DE1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78B3B-9DB2-42C7-BA5E-14622C3A9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12DEA56-9C26-4634-B8CC-D92A8D948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07906E3-6B49-4860-8B3C-629FB1CBB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3A6CC63-88CF-4208-A8E2-B22231523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BAA8D49-B5DE-427A-A88B-C7DBC099B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F5FDFB8-951A-4DB3-BFAE-8809EA840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4CE2747-95BC-4543-8F8E-151E7FE3B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F52CBEB-269E-4EFF-8E7C-3A147FC6D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F9BCE-6F77-4BA4-AD79-2CE9BCA66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D9EA5-1006-439E-87ED-3A4C67CC1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4BD67-AF95-45B0-B966-72A28F72B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F4A7F-3073-4086-A919-637498EB1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A5219-1419-4388-A345-334E6A968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F1318-6702-490E-89E7-A9B08B439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42D4B-67F5-42B7-8933-D06FFECDB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EE15D-8CAC-4B98-9D37-87BA8AD9B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EDD8E-C533-4351-B3D1-2C34D08CB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E7B30-8C5F-4BC1-984E-C0EA6AE43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2B2607-6842-484D-9437-55FA62CAE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38E7AA-F9D2-4C90-B48D-D42DA242B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0D65F4-DF0E-49C8-BB55-B6DD61F82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FA0721-7F97-4952-B7D8-B151DDDB0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178F81-8E3B-422A-8F88-23A942281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10A47-017D-4252-88CB-45BDA7BD1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B361ED-C289-4B40-AF0E-EC8735170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C7A141-2F06-4C7C-B56F-EFE7FFF91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1F080D-8F8D-4777-A29C-F421A1195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26EC78-214D-4309-8A08-5AAF5EB81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564F1F-71DE-4E84-97D4-D6D83CEFE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BEB6F8-3AAE-45F7-9F25-6E7591F99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99572D-02A1-4896-B8C7-DF68C4A82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140BF4-427D-466C-868D-1EAC0492A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D8A9E6-DF75-4667-AF71-0EE27682E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D25C52-A8D1-4133-AD1F-520AE5F94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0A412-70D0-4C49-975F-FFA725F6F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7B5F93-D173-48E2-8EC2-0108E289C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1D226D-DB9A-4822-91BB-46E86B502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BC0CA6-6769-49F5-BCBE-150F0AF02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FB3DB3-2D35-415B-B119-6B39C1A86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E5BB62-3DC1-4762-9491-B76D14A21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A1FE69-FAD9-4793-812F-4E9BD14F5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9FC29E-2737-4C14-948E-32E99CD5D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8CE24D-E8B5-4B3E-A0BB-2FC0B4A5B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585CBF-C63B-454C-BD9E-5C35EDC28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49BEDB-9523-48A8-8B65-4B5DBAF99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1BB02-10FA-4E93-9CB3-416A08621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1B1E24-1EE9-49D3-A602-98EE9C794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A73A6A-82C0-48D4-9696-010FB6502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4B21FE-F92E-40EB-B3C3-130156189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4C7BFC-C610-4BF4-81AF-5BECF169B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FCDC47-F7BC-4F15-A179-B90F4F328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800614-EA70-46F8-B337-EC9267623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74333D-B95D-4902-A267-A9EE4F6B8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18CD0B-3753-4BC4-A40C-6CCE5B7EF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E72740-8615-4F87-80C6-4F93FFDD3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92AEDA-1AC4-45EA-A08E-FA5DED178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1518D-FC73-437C-AB53-FCE52080C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46201C-3799-41BE-B580-F869B74CD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C4F8849-6194-4EC2-B72E-CF4CE6ECD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3613CA8-EBF9-480D-B472-2349F2804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22DD0D6-3702-4A4F-87F6-F2B003D52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BBCF4AB-F0F5-4CDF-ACF2-CC271B91B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0859DA3-1280-48C2-BB64-C2ED12931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C38F522-8733-41EA-B69D-6D40A749B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CC56987-858F-48C6-86E6-26B3C904E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929783D-2108-482F-B264-923A78BE6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5CDBBF8-1B50-402E-A9CD-274533606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EBD4C-7ADF-45EE-A877-900D7F1CE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A8B5918-16E1-454F-A0A1-633EC5FB2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5B50F18-F64A-4BC7-BAAF-FD2EED873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5A4C24C-2779-437F-9C18-7FEFDC6B4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8554FF-A352-4F54-8590-89A1E6EC5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6EF691-F375-428C-BC27-CC1105500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3CAFF9-4A6B-45E8-A7A2-9E8F48D26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4F4CE2-6175-4D8C-8A74-AD274EE6F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6E17B4-6373-4169-B751-72E66965B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80B17F-B342-49E1-9093-05FCEC116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4BF6DA-8CC6-42EE-88F2-ABE2FAD47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369E3-8B0C-4107-9757-83D4FCE14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6C2702-23E7-43DB-AB3F-20D7A6EBF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841AEC-0520-4423-9C19-13B5D3E11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506380-6EE1-4407-9C50-F1AA9B613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460ABA-1AC1-4141-9E4F-CBC994007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27CD21-6C70-4978-BE9D-28A0FFAA9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F555FD-417E-4A1D-982D-57E4088C1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C86022-DC01-4C27-A215-A66D6A46E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328B53-E603-4B8C-BEDC-D0C9725A5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985607-94AE-40BD-A74C-1CEA13211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817E60-5168-4748-9FD7-F616E647A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AFE42-ED07-4FDC-8C87-DADD83A7F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4108ED-2039-44D9-971A-DE2263F2E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8BC6A0-C1D6-4077-ADE8-9E5B22D46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607911-1CB8-4387-8ADE-C837C95F3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6B52C2-DFB8-45AD-A8B7-2F109E3FF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1A56FA-2F82-4BCD-A66B-75B122FE1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708611-CE39-41AC-8E63-A8A74C7B6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0C50CF-11BD-452B-9FBC-4839DFF42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4BCCD9-F323-4D5A-A568-70B76FED6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325009-E72D-49C9-AF7E-2C8EB4938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B8C814-C8FA-4F4E-AFF2-E951B649A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BA0DF-B4D1-4FD6-B2D4-66C20F4CF8A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AB6EB-5562-47DC-89CB-2E3E5646414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8C021-8326-4739-A84E-74A0A1BCE31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5E50E-3644-4927-A147-0A6D6121419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CD510-F944-458A-BF8C-CDB7E550791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EB63A-B381-4BC1-AD8A-C0884CE5B36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41A1E-34BF-481B-9DAD-9FA138E7498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A5FC7-ABF6-44F7-8F1A-15B535E57D6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AB8F4-1ECB-413E-9853-FA2275A6A12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69605-CFD7-48B6-BB78-9FC350BDAAF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C6D51-94E8-478A-830E-15838F3396C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B0827-89D8-4671-86D7-80DA1473745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210FA-1428-4D41-A658-D9481AC689D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12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12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31.png"/><Relationship Id="rId6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768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769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2060"/>
              </a:solidFill>
              <a:ln w="9360">
                <a:solidFill>
                  <a:srgbClr val="a04da3"/>
                </a:solidFill>
                <a:miter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002060"/>
              </a:solidFill>
              <a:ln w="0">
                <a:noFill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1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772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4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83a7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5" name="직사각형 5" descr=""/>
          <p:cNvPicPr/>
          <p:nvPr/>
        </p:nvPicPr>
        <p:blipFill>
          <a:blip r:embed="rId2"/>
          <a:stretch/>
        </p:blipFill>
        <p:spPr>
          <a:xfrm>
            <a:off x="401760" y="2401920"/>
            <a:ext cx="2322360" cy="1054080"/>
          </a:xfrm>
          <a:prstGeom prst="rect">
            <a:avLst/>
          </a:prstGeom>
          <a:ln w="0">
            <a:noFill/>
          </a:ln>
        </p:spPr>
      </p:pic>
      <p:pic>
        <p:nvPicPr>
          <p:cNvPr id="776" name="직사각형 6" descr=""/>
          <p:cNvPicPr/>
          <p:nvPr/>
        </p:nvPicPr>
        <p:blipFill>
          <a:blip r:embed="rId3"/>
          <a:stretch/>
        </p:blipFill>
        <p:spPr>
          <a:xfrm>
            <a:off x="487440" y="3316320"/>
            <a:ext cx="3133800" cy="1719360"/>
          </a:xfrm>
          <a:prstGeom prst="rect">
            <a:avLst/>
          </a:prstGeom>
          <a:ln w="0">
            <a:noFill/>
          </a:ln>
        </p:spPr>
      </p:pic>
      <p:sp>
        <p:nvSpPr>
          <p:cNvPr id="777" name="직사각형 45"/>
          <p:cNvSpPr/>
          <p:nvPr/>
        </p:nvSpPr>
        <p:spPr>
          <a:xfrm>
            <a:off x="4861800" y="2344680"/>
            <a:ext cx="158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표준화 검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직사각형 45"/>
          <p:cNvSpPr/>
          <p:nvPr/>
        </p:nvSpPr>
        <p:spPr>
          <a:xfrm>
            <a:off x="5343480" y="3267000"/>
            <a:ext cx="291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표준화 검사의 이해 및 해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직사각형 45"/>
          <p:cNvSpPr/>
          <p:nvPr/>
        </p:nvSpPr>
        <p:spPr>
          <a:xfrm>
            <a:off x="5256360" y="4187880"/>
            <a:ext cx="265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표준화 검사에 대한 쟁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1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E294F-6866-4E35-B708-832F697CDDF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2" name="TextBox 9" descr=""/>
          <p:cNvPicPr/>
          <p:nvPr/>
        </p:nvPicPr>
        <p:blipFill>
          <a:blip r:embed="rId1"/>
          <a:stretch/>
        </p:blipFill>
        <p:spPr>
          <a:xfrm>
            <a:off x="5894280" y="506520"/>
            <a:ext cx="2884680" cy="590400"/>
          </a:xfrm>
          <a:prstGeom prst="rect">
            <a:avLst/>
          </a:prstGeom>
          <a:ln w="0">
            <a:noFill/>
          </a:ln>
        </p:spPr>
      </p:pic>
      <p:sp>
        <p:nvSpPr>
          <p:cNvPr id="783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691A4-8DE1-4F90-9C94-D07B8F33B088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4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785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786" name="직사각형 14"/>
              <p:cNvSpPr/>
              <p:nvPr/>
            </p:nvSpPr>
            <p:spPr>
              <a:xfrm>
                <a:off x="1051920" y="1386000"/>
                <a:ext cx="3162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표준화 검사란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8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9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3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4" name="그룹 43"/>
          <p:cNvGrpSpPr/>
          <p:nvPr/>
        </p:nvGrpSpPr>
        <p:grpSpPr>
          <a:xfrm>
            <a:off x="571680" y="1876320"/>
            <a:ext cx="8072280" cy="3052800"/>
            <a:chOff x="571680" y="1876320"/>
            <a:chExt cx="8072280" cy="3052800"/>
          </a:xfrm>
        </p:grpSpPr>
        <p:pic>
          <p:nvPicPr>
            <p:cNvPr id="795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30528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796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797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8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9" name="직사각형 19"/>
            <p:cNvSpPr/>
            <p:nvPr/>
          </p:nvSpPr>
          <p:spPr>
            <a:xfrm>
              <a:off x="928800" y="1991880"/>
              <a:ext cx="7669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일한 조건에서 많은 수의 학생들을 대상으로 시행되고 동일한 절차에 따라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채점되는 평가도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0" name="직사각형 16"/>
          <p:cNvSpPr/>
          <p:nvPr/>
        </p:nvSpPr>
        <p:spPr>
          <a:xfrm>
            <a:off x="928800" y="2994120"/>
            <a:ext cx="76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규준집단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대표성을 띠는 개인들의 집단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이러한 개인들의 표준화 점수를 가지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가 전국적 규준을 구성함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1" name="타원 20"/>
          <p:cNvGrpSpPr/>
          <p:nvPr/>
        </p:nvGrpSpPr>
        <p:grpSpPr>
          <a:xfrm>
            <a:off x="835200" y="3170160"/>
            <a:ext cx="225360" cy="225360"/>
            <a:chOff x="835200" y="3170160"/>
            <a:chExt cx="225360" cy="225360"/>
          </a:xfrm>
        </p:grpSpPr>
        <p:pic>
          <p:nvPicPr>
            <p:cNvPr id="802" name="타원 20" descr=""/>
            <p:cNvPicPr/>
            <p:nvPr/>
          </p:nvPicPr>
          <p:blipFill>
            <a:blip r:embed="rId5"/>
            <a:stretch/>
          </p:blipFill>
          <p:spPr>
            <a:xfrm>
              <a:off x="835200" y="317016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3" name=""/>
            <p:cNvSpPr/>
            <p:nvPr/>
          </p:nvSpPr>
          <p:spPr>
            <a:xfrm rot="10800000">
              <a:off x="915840" y="322704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4" name="직사각형 21"/>
          <p:cNvSpPr/>
          <p:nvPr/>
        </p:nvSpPr>
        <p:spPr>
          <a:xfrm>
            <a:off x="928800" y="399240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전국규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전국에서 선발된 대표 학생들이 표준화 검사에서 획득한 점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5" name="타원 22"/>
          <p:cNvGrpSpPr/>
          <p:nvPr/>
        </p:nvGrpSpPr>
        <p:grpSpPr>
          <a:xfrm>
            <a:off x="835200" y="4170240"/>
            <a:ext cx="225360" cy="219240"/>
            <a:chOff x="835200" y="4170240"/>
            <a:chExt cx="225360" cy="219240"/>
          </a:xfrm>
        </p:grpSpPr>
        <p:pic>
          <p:nvPicPr>
            <p:cNvPr id="806" name="타원 22" descr=""/>
            <p:cNvPicPr/>
            <p:nvPr/>
          </p:nvPicPr>
          <p:blipFill>
            <a:blip r:embed="rId6"/>
            <a:stretch/>
          </p:blipFill>
          <p:spPr>
            <a:xfrm>
              <a:off x="835200" y="4170240"/>
              <a:ext cx="225360" cy="21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7" name=""/>
            <p:cNvSpPr/>
            <p:nvPr/>
          </p:nvSpPr>
          <p:spPr>
            <a:xfrm rot="10800000">
              <a:off x="915840" y="422712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8" name="TextBox 9" descr=""/>
          <p:cNvPicPr/>
          <p:nvPr/>
        </p:nvPicPr>
        <p:blipFill>
          <a:blip r:embed="rId1"/>
          <a:stretch/>
        </p:blipFill>
        <p:spPr>
          <a:xfrm>
            <a:off x="6029280" y="506520"/>
            <a:ext cx="2870280" cy="590400"/>
          </a:xfrm>
          <a:prstGeom prst="rect">
            <a:avLst/>
          </a:prstGeom>
          <a:ln w="0">
            <a:noFill/>
          </a:ln>
        </p:spPr>
      </p:pic>
      <p:sp>
        <p:nvSpPr>
          <p:cNvPr id="809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F88F7-3ED9-4453-AB61-58E956BAB3BA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0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11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12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표준화 검사의 기능 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1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1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17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19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0" name="그룹 43"/>
          <p:cNvGrpSpPr/>
          <p:nvPr/>
        </p:nvGrpSpPr>
        <p:grpSpPr>
          <a:xfrm>
            <a:off x="571680" y="1876320"/>
            <a:ext cx="8072280" cy="3267360"/>
            <a:chOff x="571680" y="1876320"/>
            <a:chExt cx="8072280" cy="3267360"/>
          </a:xfrm>
        </p:grpSpPr>
        <p:pic>
          <p:nvPicPr>
            <p:cNvPr id="821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32673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22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823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4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5" name="직사각형 19"/>
            <p:cNvSpPr/>
            <p:nvPr/>
          </p:nvSpPr>
          <p:spPr>
            <a:xfrm>
              <a:off x="928800" y="19918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 평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진척에 대한 객관적인 정보제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6" name="직사각형 16"/>
          <p:cNvSpPr/>
          <p:nvPr/>
        </p:nvSpPr>
        <p:spPr>
          <a:xfrm>
            <a:off x="928800" y="257184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진단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장단점 진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7" name="타원 20"/>
          <p:cNvGrpSpPr/>
          <p:nvPr/>
        </p:nvGrpSpPr>
        <p:grpSpPr>
          <a:xfrm>
            <a:off x="835200" y="2743200"/>
            <a:ext cx="225360" cy="225360"/>
            <a:chOff x="835200" y="2743200"/>
            <a:chExt cx="225360" cy="225360"/>
          </a:xfrm>
        </p:grpSpPr>
        <p:pic>
          <p:nvPicPr>
            <p:cNvPr id="828" name="타원 20" descr=""/>
            <p:cNvPicPr/>
            <p:nvPr/>
          </p:nvPicPr>
          <p:blipFill>
            <a:blip r:embed="rId5"/>
            <a:stretch/>
          </p:blipFill>
          <p:spPr>
            <a:xfrm>
              <a:off x="835200" y="274320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9" name=""/>
            <p:cNvSpPr/>
            <p:nvPr/>
          </p:nvSpPr>
          <p:spPr>
            <a:xfrm rot="10800000">
              <a:off x="915840" y="279828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0" name="직사각형 21"/>
          <p:cNvSpPr/>
          <p:nvPr/>
        </p:nvSpPr>
        <p:spPr>
          <a:xfrm>
            <a:off x="928800" y="371484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프로그램 평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수 프로그램에 대한 정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1" name="타원 22"/>
          <p:cNvGrpSpPr/>
          <p:nvPr/>
        </p:nvGrpSpPr>
        <p:grpSpPr>
          <a:xfrm>
            <a:off x="858960" y="3889440"/>
            <a:ext cx="226800" cy="225360"/>
            <a:chOff x="858960" y="3889440"/>
            <a:chExt cx="226800" cy="225360"/>
          </a:xfrm>
        </p:grpSpPr>
        <p:pic>
          <p:nvPicPr>
            <p:cNvPr id="832" name="타원 22" descr=""/>
            <p:cNvPicPr/>
            <p:nvPr/>
          </p:nvPicPr>
          <p:blipFill>
            <a:blip r:embed="rId6"/>
            <a:stretch/>
          </p:blipFill>
          <p:spPr>
            <a:xfrm>
              <a:off x="858960" y="388944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3" name=""/>
            <p:cNvSpPr/>
            <p:nvPr/>
          </p:nvSpPr>
          <p:spPr>
            <a:xfrm rot="10800000">
              <a:off x="942840" y="394128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4" name="직사각형 23"/>
          <p:cNvSpPr/>
          <p:nvPr/>
        </p:nvSpPr>
        <p:spPr>
          <a:xfrm>
            <a:off x="928800" y="313524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선발과 배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별한 목적이 수업에 선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5" name="타원 25"/>
          <p:cNvGrpSpPr/>
          <p:nvPr/>
        </p:nvGrpSpPr>
        <p:grpSpPr>
          <a:xfrm>
            <a:off x="835200" y="3316320"/>
            <a:ext cx="225360" cy="225360"/>
            <a:chOff x="835200" y="3316320"/>
            <a:chExt cx="225360" cy="225360"/>
          </a:xfrm>
        </p:grpSpPr>
        <p:pic>
          <p:nvPicPr>
            <p:cNvPr id="836" name="타원 25" descr=""/>
            <p:cNvPicPr/>
            <p:nvPr/>
          </p:nvPicPr>
          <p:blipFill>
            <a:blip r:embed="rId7"/>
            <a:stretch/>
          </p:blipFill>
          <p:spPr>
            <a:xfrm>
              <a:off x="835200" y="331632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7" name=""/>
            <p:cNvSpPr/>
            <p:nvPr/>
          </p:nvSpPr>
          <p:spPr>
            <a:xfrm rot="10800000">
              <a:off x="915840" y="336996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8" name="직사각형 26"/>
          <p:cNvSpPr/>
          <p:nvPr/>
        </p:nvSpPr>
        <p:spPr>
          <a:xfrm>
            <a:off x="928800" y="427824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생 성적에 대한 책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다른 지역의 학교들의 상대적인 수행에 대한 정보제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9" name="타원 27"/>
          <p:cNvGrpSpPr/>
          <p:nvPr/>
        </p:nvGrpSpPr>
        <p:grpSpPr>
          <a:xfrm>
            <a:off x="858960" y="4456080"/>
            <a:ext cx="226800" cy="225360"/>
            <a:chOff x="858960" y="4456080"/>
            <a:chExt cx="226800" cy="225360"/>
          </a:xfrm>
        </p:grpSpPr>
        <p:pic>
          <p:nvPicPr>
            <p:cNvPr id="840" name="타원 27" descr=""/>
            <p:cNvPicPr/>
            <p:nvPr/>
          </p:nvPicPr>
          <p:blipFill>
            <a:blip r:embed="rId8"/>
            <a:stretch/>
          </p:blipFill>
          <p:spPr>
            <a:xfrm>
              <a:off x="858960" y="445608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1" name=""/>
            <p:cNvSpPr/>
            <p:nvPr/>
          </p:nvSpPr>
          <p:spPr>
            <a:xfrm rot="10800000">
              <a:off x="942840" y="451296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2" name="TextBox 9" descr=""/>
          <p:cNvPicPr/>
          <p:nvPr/>
        </p:nvPicPr>
        <p:blipFill>
          <a:blip r:embed="rId1"/>
          <a:stretch/>
        </p:blipFill>
        <p:spPr>
          <a:xfrm>
            <a:off x="6029280" y="506520"/>
            <a:ext cx="2870280" cy="590400"/>
          </a:xfrm>
          <a:prstGeom prst="rect">
            <a:avLst/>
          </a:prstGeom>
          <a:ln w="0">
            <a:noFill/>
          </a:ln>
        </p:spPr>
      </p:pic>
      <p:sp>
        <p:nvSpPr>
          <p:cNvPr id="843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AFCF3-A225-48FB-874B-73D54B94B181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4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45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46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표준화 검사의 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7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4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5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5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53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4" name="그룹 43"/>
          <p:cNvGrpSpPr/>
          <p:nvPr/>
        </p:nvGrpSpPr>
        <p:grpSpPr>
          <a:xfrm>
            <a:off x="571680" y="1876320"/>
            <a:ext cx="8072280" cy="3838680"/>
            <a:chOff x="571680" y="1876320"/>
            <a:chExt cx="8072280" cy="3838680"/>
          </a:xfrm>
        </p:grpSpPr>
        <p:pic>
          <p:nvPicPr>
            <p:cNvPr id="855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3838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56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857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8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9" name="직사각형 19"/>
            <p:cNvSpPr/>
            <p:nvPr/>
          </p:nvSpPr>
          <p:spPr>
            <a:xfrm>
              <a:off x="928800" y="19918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취도 검사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들의 특정한 내용 영역에서 얼마나 많이 배웠는지 측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0" name="직사각형 16"/>
          <p:cNvSpPr/>
          <p:nvPr/>
        </p:nvSpPr>
        <p:spPr>
          <a:xfrm>
            <a:off x="928800" y="2778120"/>
            <a:ext cx="7786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진단검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정한 기능영역에서 학생들의 장점과 단점을 상세히 설명해 주는 검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1" name="타원 20"/>
          <p:cNvGrpSpPr/>
          <p:nvPr/>
        </p:nvGrpSpPr>
        <p:grpSpPr>
          <a:xfrm>
            <a:off x="835200" y="2938320"/>
            <a:ext cx="225360" cy="225720"/>
            <a:chOff x="835200" y="2938320"/>
            <a:chExt cx="225360" cy="225720"/>
          </a:xfrm>
        </p:grpSpPr>
        <p:pic>
          <p:nvPicPr>
            <p:cNvPr id="862" name="타원 20" descr=""/>
            <p:cNvPicPr/>
            <p:nvPr/>
          </p:nvPicPr>
          <p:blipFill>
            <a:blip r:embed="rId5"/>
            <a:stretch/>
          </p:blipFill>
          <p:spPr>
            <a:xfrm>
              <a:off x="835200" y="2938320"/>
              <a:ext cx="22536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3" name=""/>
            <p:cNvSpPr/>
            <p:nvPr/>
          </p:nvSpPr>
          <p:spPr>
            <a:xfrm rot="10800000">
              <a:off x="915840" y="299376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4" name="직사각형 21"/>
          <p:cNvSpPr/>
          <p:nvPr/>
        </p:nvSpPr>
        <p:spPr>
          <a:xfrm>
            <a:off x="928800" y="4576680"/>
            <a:ext cx="76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적성검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을 위한 잠재력을 예측하며 오랜 시간에 걸쳐 개발된 일반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능력을 측정하는 검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타원 22"/>
          <p:cNvGrpSpPr/>
          <p:nvPr/>
        </p:nvGrpSpPr>
        <p:grpSpPr>
          <a:xfrm>
            <a:off x="858960" y="4743360"/>
            <a:ext cx="226800" cy="225360"/>
            <a:chOff x="858960" y="4743360"/>
            <a:chExt cx="226800" cy="225360"/>
          </a:xfrm>
        </p:grpSpPr>
        <p:pic>
          <p:nvPicPr>
            <p:cNvPr id="866" name="타원 22" descr=""/>
            <p:cNvPicPr/>
            <p:nvPr/>
          </p:nvPicPr>
          <p:blipFill>
            <a:blip r:embed="rId6"/>
            <a:stretch/>
          </p:blipFill>
          <p:spPr>
            <a:xfrm>
              <a:off x="858960" y="474336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7" name=""/>
            <p:cNvSpPr/>
            <p:nvPr/>
          </p:nvSpPr>
          <p:spPr>
            <a:xfrm rot="10800000">
              <a:off x="942840" y="4799160"/>
              <a:ext cx="69840" cy="6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8" name="직사각형 23"/>
          <p:cNvSpPr/>
          <p:nvPr/>
        </p:nvSpPr>
        <p:spPr>
          <a:xfrm>
            <a:off x="928800" y="3505320"/>
            <a:ext cx="76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지능검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지식을 습득할 수 있는 개인의 능력과 추상적인 것을 사고하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추론하는 능력과 새로운 문제를 해결할 수 있는 능력을 측정하는 검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9" name="타원 25"/>
          <p:cNvGrpSpPr/>
          <p:nvPr/>
        </p:nvGrpSpPr>
        <p:grpSpPr>
          <a:xfrm>
            <a:off x="835200" y="3724200"/>
            <a:ext cx="225360" cy="225360"/>
            <a:chOff x="835200" y="3724200"/>
            <a:chExt cx="225360" cy="225360"/>
          </a:xfrm>
        </p:grpSpPr>
        <p:pic>
          <p:nvPicPr>
            <p:cNvPr id="870" name="타원 25" descr=""/>
            <p:cNvPicPr/>
            <p:nvPr/>
          </p:nvPicPr>
          <p:blipFill>
            <a:blip r:embed="rId7"/>
            <a:stretch/>
          </p:blipFill>
          <p:spPr>
            <a:xfrm>
              <a:off x="835200" y="372420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1" name=""/>
            <p:cNvSpPr/>
            <p:nvPr/>
          </p:nvSpPr>
          <p:spPr>
            <a:xfrm rot="10800000">
              <a:off x="915840" y="3780000"/>
              <a:ext cx="69840" cy="6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2" name="TextBox 9" descr=""/>
          <p:cNvPicPr/>
          <p:nvPr/>
        </p:nvPicPr>
        <p:blipFill>
          <a:blip r:embed="rId1"/>
          <a:stretch/>
        </p:blipFill>
        <p:spPr>
          <a:xfrm>
            <a:off x="6029280" y="506520"/>
            <a:ext cx="2870280" cy="590400"/>
          </a:xfrm>
          <a:prstGeom prst="rect">
            <a:avLst/>
          </a:prstGeom>
          <a:ln w="0">
            <a:noFill/>
          </a:ln>
        </p:spPr>
      </p:pic>
      <p:sp>
        <p:nvSpPr>
          <p:cNvPr id="873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E4DA2-EFD9-4BA9-B424-D24FCD204CF4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4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75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76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표준화 검사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7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8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8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8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83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4" name="그룹 43"/>
          <p:cNvGrpSpPr/>
          <p:nvPr/>
        </p:nvGrpSpPr>
        <p:grpSpPr>
          <a:xfrm>
            <a:off x="571680" y="1876320"/>
            <a:ext cx="8072280" cy="4981680"/>
            <a:chOff x="571680" y="1876320"/>
            <a:chExt cx="8072280" cy="4981680"/>
          </a:xfrm>
        </p:grpSpPr>
        <p:pic>
          <p:nvPicPr>
            <p:cNvPr id="885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98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86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887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8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9" name="직사각형 19"/>
            <p:cNvSpPr/>
            <p:nvPr/>
          </p:nvSpPr>
          <p:spPr>
            <a:xfrm>
              <a:off x="928800" y="1991880"/>
              <a:ext cx="7669080" cy="13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내용타당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가르쳐진 내용을 대표할 수 있는 문항으로 구성되었는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자가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그 내용을 얼마나 이해하고 있는지를 측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시험 내용과 교과과정의 목표를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비교해서 결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0" name="직사각형 16"/>
          <p:cNvSpPr/>
          <p:nvPr/>
        </p:nvSpPr>
        <p:spPr>
          <a:xfrm>
            <a:off x="928800" y="3429000"/>
            <a:ext cx="7786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예언타당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미래의 수행을 측정하는 검사의 능력에 대한 지표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예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준화검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점수와 성적간의 상관관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직사각형 21"/>
          <p:cNvSpPr/>
          <p:nvPr/>
        </p:nvSpPr>
        <p:spPr>
          <a:xfrm>
            <a:off x="928800" y="4446720"/>
            <a:ext cx="766908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구성타당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시험과 그 시험이 측정하려는 것 사이의 논리적 연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예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학능력시험의 문제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.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단어와 수에 대해 추상적인 사고를 할 수 있는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능력을 측정으로 이상의 것들을 대학에서 다뤄야 할 과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2" name="타원 22"/>
          <p:cNvGrpSpPr/>
          <p:nvPr/>
        </p:nvGrpSpPr>
        <p:grpSpPr>
          <a:xfrm>
            <a:off x="858960" y="4651200"/>
            <a:ext cx="226800" cy="219240"/>
            <a:chOff x="858960" y="4651200"/>
            <a:chExt cx="226800" cy="219240"/>
          </a:xfrm>
        </p:grpSpPr>
        <p:pic>
          <p:nvPicPr>
            <p:cNvPr id="893" name="타원 22" descr=""/>
            <p:cNvPicPr/>
            <p:nvPr/>
          </p:nvPicPr>
          <p:blipFill>
            <a:blip r:embed="rId5"/>
            <a:stretch/>
          </p:blipFill>
          <p:spPr>
            <a:xfrm>
              <a:off x="858960" y="4651200"/>
              <a:ext cx="226800" cy="21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4" name=""/>
            <p:cNvSpPr/>
            <p:nvPr/>
          </p:nvSpPr>
          <p:spPr>
            <a:xfrm rot="10800000">
              <a:off x="942840" y="470808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5" name="타원 25"/>
          <p:cNvGrpSpPr/>
          <p:nvPr/>
        </p:nvGrpSpPr>
        <p:grpSpPr>
          <a:xfrm>
            <a:off x="835200" y="3602160"/>
            <a:ext cx="225360" cy="226800"/>
            <a:chOff x="835200" y="3602160"/>
            <a:chExt cx="225360" cy="226800"/>
          </a:xfrm>
        </p:grpSpPr>
        <p:pic>
          <p:nvPicPr>
            <p:cNvPr id="896" name="타원 25" descr=""/>
            <p:cNvPicPr/>
            <p:nvPr/>
          </p:nvPicPr>
          <p:blipFill>
            <a:blip r:embed="rId6"/>
            <a:stretch/>
          </p:blipFill>
          <p:spPr>
            <a:xfrm>
              <a:off x="835200" y="3602160"/>
              <a:ext cx="225360" cy="22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7" name=""/>
            <p:cNvSpPr/>
            <p:nvPr/>
          </p:nvSpPr>
          <p:spPr>
            <a:xfrm rot="10800000">
              <a:off x="915840" y="3656160"/>
              <a:ext cx="69840" cy="6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8" name="직사각형 20"/>
          <p:cNvSpPr/>
          <p:nvPr/>
        </p:nvSpPr>
        <p:spPr>
          <a:xfrm>
            <a:off x="928800" y="6005520"/>
            <a:ext cx="7786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**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타당도와 신뢰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9" name="TextBox 9" descr=""/>
          <p:cNvPicPr/>
          <p:nvPr/>
        </p:nvPicPr>
        <p:blipFill>
          <a:blip r:embed="rId1"/>
          <a:stretch/>
        </p:blipFill>
        <p:spPr>
          <a:xfrm>
            <a:off x="6029280" y="506520"/>
            <a:ext cx="2870280" cy="590400"/>
          </a:xfrm>
          <a:prstGeom prst="rect">
            <a:avLst/>
          </a:prstGeom>
          <a:ln w="0">
            <a:noFill/>
          </a:ln>
        </p:spPr>
      </p:pic>
      <p:sp>
        <p:nvSpPr>
          <p:cNvPr id="900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E9FB6-E0E4-4351-9625-4AA54D7E2EB7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1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902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903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교사의 역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0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0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08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0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10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5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1" name="그룹 43"/>
          <p:cNvGrpSpPr/>
          <p:nvPr/>
        </p:nvGrpSpPr>
        <p:grpSpPr>
          <a:xfrm>
            <a:off x="571680" y="1876320"/>
            <a:ext cx="8072280" cy="4981680"/>
            <a:chOff x="571680" y="1876320"/>
            <a:chExt cx="8072280" cy="4981680"/>
          </a:xfrm>
        </p:grpSpPr>
        <p:pic>
          <p:nvPicPr>
            <p:cNvPr id="912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98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913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914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15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16" name="직사각형 19"/>
            <p:cNvSpPr/>
            <p:nvPr/>
          </p:nvSpPr>
          <p:spPr>
            <a:xfrm>
              <a:off x="928800" y="19918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표준화 검사 점수가 타당한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들이 배운 것을 정확히 반영하는지 확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7" name="직사각형 16"/>
          <p:cNvSpPr/>
          <p:nvPr/>
        </p:nvSpPr>
        <p:spPr>
          <a:xfrm>
            <a:off x="928800" y="2714760"/>
            <a:ext cx="7786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검사 결과를 학생과 부모에게 전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직사각형 21"/>
          <p:cNvSpPr/>
          <p:nvPr/>
        </p:nvSpPr>
        <p:spPr>
          <a:xfrm>
            <a:off x="928800" y="335772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시험 결과를 바탕으로 자신의 교수법에 변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9" name="타원 22"/>
          <p:cNvGrpSpPr/>
          <p:nvPr/>
        </p:nvGrpSpPr>
        <p:grpSpPr>
          <a:xfrm>
            <a:off x="858960" y="3529080"/>
            <a:ext cx="226800" cy="225360"/>
            <a:chOff x="858960" y="3529080"/>
            <a:chExt cx="226800" cy="225360"/>
          </a:xfrm>
        </p:grpSpPr>
        <p:pic>
          <p:nvPicPr>
            <p:cNvPr id="920" name="타원 22" descr=""/>
            <p:cNvPicPr/>
            <p:nvPr/>
          </p:nvPicPr>
          <p:blipFill>
            <a:blip r:embed="rId5"/>
            <a:stretch/>
          </p:blipFill>
          <p:spPr>
            <a:xfrm>
              <a:off x="858960" y="352908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1" name=""/>
            <p:cNvSpPr/>
            <p:nvPr/>
          </p:nvSpPr>
          <p:spPr>
            <a:xfrm rot="10800000">
              <a:off x="942840" y="358416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2" name="타원 25"/>
          <p:cNvGrpSpPr/>
          <p:nvPr/>
        </p:nvGrpSpPr>
        <p:grpSpPr>
          <a:xfrm>
            <a:off x="835200" y="2882880"/>
            <a:ext cx="225360" cy="231840"/>
            <a:chOff x="835200" y="2882880"/>
            <a:chExt cx="225360" cy="231840"/>
          </a:xfrm>
        </p:grpSpPr>
        <p:pic>
          <p:nvPicPr>
            <p:cNvPr id="923" name="타원 25" descr=""/>
            <p:cNvPicPr/>
            <p:nvPr/>
          </p:nvPicPr>
          <p:blipFill>
            <a:blip r:embed="rId6"/>
            <a:stretch/>
          </p:blipFill>
          <p:spPr>
            <a:xfrm>
              <a:off x="835200" y="288288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4" name=""/>
            <p:cNvSpPr/>
            <p:nvPr/>
          </p:nvSpPr>
          <p:spPr>
            <a:xfrm rot="10800000">
              <a:off x="915840" y="294120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5" name="직사각형 23"/>
          <p:cNvSpPr/>
          <p:nvPr/>
        </p:nvSpPr>
        <p:spPr>
          <a:xfrm>
            <a:off x="928800" y="3890880"/>
            <a:ext cx="7669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&lt;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수 전략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15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검사 선택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검사내용이 수업 내용과 일치하는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생들에게 배울 수 있는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회를 제공하는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적절한 규준집단을 가지고 있는지 확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15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생 준비시키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15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검사 실시하기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항상 동일하게 실시하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15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검사결과 해석하기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“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생 및 학부모와 공유하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6" name="TextBox 9" descr=""/>
          <p:cNvPicPr/>
          <p:nvPr/>
        </p:nvPicPr>
        <p:blipFill>
          <a:blip r:embed="rId1"/>
          <a:stretch/>
        </p:blipFill>
        <p:spPr>
          <a:xfrm>
            <a:off x="3297240" y="506520"/>
            <a:ext cx="5597640" cy="590400"/>
          </a:xfrm>
          <a:prstGeom prst="rect">
            <a:avLst/>
          </a:prstGeom>
          <a:ln w="0">
            <a:noFill/>
          </a:ln>
        </p:spPr>
      </p:pic>
      <p:sp>
        <p:nvSpPr>
          <p:cNvPr id="927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8C3F5-1EC9-4EA6-B577-FB57C07C8E93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8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929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930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기술 통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1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3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3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3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3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37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8" name="그룹 43"/>
          <p:cNvGrpSpPr/>
          <p:nvPr/>
        </p:nvGrpSpPr>
        <p:grpSpPr>
          <a:xfrm>
            <a:off x="571680" y="1876320"/>
            <a:ext cx="8072280" cy="4981680"/>
            <a:chOff x="571680" y="1876320"/>
            <a:chExt cx="8072280" cy="4981680"/>
          </a:xfrm>
        </p:grpSpPr>
        <p:pic>
          <p:nvPicPr>
            <p:cNvPr id="939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98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940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941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42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43" name="직사각형 19"/>
            <p:cNvSpPr/>
            <p:nvPr/>
          </p:nvSpPr>
          <p:spPr>
            <a:xfrm>
              <a:off x="928800" y="19918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빈도분석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몇 명 인지 점수의 분포를 보여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4" name="직사각형 16"/>
          <p:cNvSpPr/>
          <p:nvPr/>
        </p:nvSpPr>
        <p:spPr>
          <a:xfrm>
            <a:off x="928800" y="2571840"/>
            <a:ext cx="7786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집중 경향치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한 집단의 전체적인 수행을 양적으로 기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평균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중앙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빈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5" name="타원 25"/>
          <p:cNvGrpSpPr/>
          <p:nvPr/>
        </p:nvGrpSpPr>
        <p:grpSpPr>
          <a:xfrm>
            <a:off x="835200" y="2743200"/>
            <a:ext cx="225360" cy="225360"/>
            <a:chOff x="835200" y="2743200"/>
            <a:chExt cx="225360" cy="225360"/>
          </a:xfrm>
        </p:grpSpPr>
        <p:pic>
          <p:nvPicPr>
            <p:cNvPr id="946" name="타원 25" descr=""/>
            <p:cNvPicPr/>
            <p:nvPr/>
          </p:nvPicPr>
          <p:blipFill>
            <a:blip r:embed="rId5"/>
            <a:stretch/>
          </p:blipFill>
          <p:spPr>
            <a:xfrm>
              <a:off x="835200" y="274320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7" name=""/>
            <p:cNvSpPr/>
            <p:nvPr/>
          </p:nvSpPr>
          <p:spPr>
            <a:xfrm rot="10800000">
              <a:off x="915840" y="279828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8" name="직사각형 20"/>
          <p:cNvSpPr/>
          <p:nvPr/>
        </p:nvSpPr>
        <p:spPr>
          <a:xfrm>
            <a:off x="928800" y="4357800"/>
            <a:ext cx="778644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변산도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점수들이 얼마나 퍼져 있는지 기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준편차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vs.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분산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9" name="타원 24"/>
          <p:cNvGrpSpPr/>
          <p:nvPr/>
        </p:nvGrpSpPr>
        <p:grpSpPr>
          <a:xfrm>
            <a:off x="858960" y="4529160"/>
            <a:ext cx="226800" cy="225360"/>
            <a:chOff x="858960" y="4529160"/>
            <a:chExt cx="226800" cy="225360"/>
          </a:xfrm>
        </p:grpSpPr>
        <p:pic>
          <p:nvPicPr>
            <p:cNvPr id="950" name="타원 24" descr=""/>
            <p:cNvPicPr/>
            <p:nvPr/>
          </p:nvPicPr>
          <p:blipFill>
            <a:blip r:embed="rId6"/>
            <a:stretch/>
          </p:blipFill>
          <p:spPr>
            <a:xfrm>
              <a:off x="858960" y="452916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1" name=""/>
            <p:cNvSpPr/>
            <p:nvPr/>
          </p:nvSpPr>
          <p:spPr>
            <a:xfrm rot="10800000">
              <a:off x="942840" y="458424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2" name="직사각형 26"/>
          <p:cNvSpPr/>
          <p:nvPr/>
        </p:nvSpPr>
        <p:spPr>
          <a:xfrm>
            <a:off x="928800" y="5786280"/>
            <a:ext cx="7786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상분포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평균값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=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중앙치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=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빈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좌우 대칭의 종 모양의 분포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3" name="타원 27"/>
          <p:cNvGrpSpPr/>
          <p:nvPr/>
        </p:nvGrpSpPr>
        <p:grpSpPr>
          <a:xfrm>
            <a:off x="858960" y="5937120"/>
            <a:ext cx="226800" cy="225720"/>
            <a:chOff x="858960" y="5937120"/>
            <a:chExt cx="226800" cy="225720"/>
          </a:xfrm>
        </p:grpSpPr>
        <p:pic>
          <p:nvPicPr>
            <p:cNvPr id="954" name="타원 27" descr=""/>
            <p:cNvPicPr/>
            <p:nvPr/>
          </p:nvPicPr>
          <p:blipFill>
            <a:blip r:embed="rId7"/>
            <a:stretch/>
          </p:blipFill>
          <p:spPr>
            <a:xfrm>
              <a:off x="858960" y="5937120"/>
              <a:ext cx="22680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5" name=""/>
            <p:cNvSpPr/>
            <p:nvPr/>
          </p:nvSpPr>
          <p:spPr>
            <a:xfrm rot="10800000">
              <a:off x="942840" y="599400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6" name="TextBox 9" descr=""/>
          <p:cNvPicPr/>
          <p:nvPr/>
        </p:nvPicPr>
        <p:blipFill>
          <a:blip r:embed="rId1"/>
          <a:stretch/>
        </p:blipFill>
        <p:spPr>
          <a:xfrm>
            <a:off x="3297240" y="506520"/>
            <a:ext cx="5597640" cy="590400"/>
          </a:xfrm>
          <a:prstGeom prst="rect">
            <a:avLst/>
          </a:prstGeom>
          <a:ln w="0">
            <a:noFill/>
          </a:ln>
        </p:spPr>
      </p:pic>
      <p:sp>
        <p:nvSpPr>
          <p:cNvPr id="957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1A765-07D7-473B-A45C-13C506E5FDCB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8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959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960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이해 및 해석잏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1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6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6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6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6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67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8" name="그룹 43"/>
          <p:cNvGrpSpPr/>
          <p:nvPr/>
        </p:nvGrpSpPr>
        <p:grpSpPr>
          <a:xfrm>
            <a:off x="571680" y="1876320"/>
            <a:ext cx="8072280" cy="4981680"/>
            <a:chOff x="571680" y="1876320"/>
            <a:chExt cx="8072280" cy="4981680"/>
          </a:xfrm>
        </p:grpSpPr>
        <p:pic>
          <p:nvPicPr>
            <p:cNvPr id="969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98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970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971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72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73" name="직사각형 19"/>
            <p:cNvSpPr/>
            <p:nvPr/>
          </p:nvSpPr>
          <p:spPr>
            <a:xfrm>
              <a:off x="928800" y="19918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목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서로 다른 학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역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나라에 살고 있는 학생들과 비교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4" name="직사각형 16"/>
          <p:cNvSpPr/>
          <p:nvPr/>
        </p:nvSpPr>
        <p:spPr>
          <a:xfrm>
            <a:off x="928800" y="2571840"/>
            <a:ext cx="7786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원점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개인이 표준화 검사 혹은 그 하위 검사에서 정확하게 반응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5" name="타원 25"/>
          <p:cNvGrpSpPr/>
          <p:nvPr/>
        </p:nvGrpSpPr>
        <p:grpSpPr>
          <a:xfrm>
            <a:off x="835200" y="2743200"/>
            <a:ext cx="225360" cy="225360"/>
            <a:chOff x="835200" y="2743200"/>
            <a:chExt cx="225360" cy="225360"/>
          </a:xfrm>
        </p:grpSpPr>
        <p:pic>
          <p:nvPicPr>
            <p:cNvPr id="976" name="타원 25" descr=""/>
            <p:cNvPicPr/>
            <p:nvPr/>
          </p:nvPicPr>
          <p:blipFill>
            <a:blip r:embed="rId5"/>
            <a:stretch/>
          </p:blipFill>
          <p:spPr>
            <a:xfrm>
              <a:off x="835200" y="274320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7" name=""/>
            <p:cNvSpPr/>
            <p:nvPr/>
          </p:nvSpPr>
          <p:spPr>
            <a:xfrm rot="10800000">
              <a:off x="915840" y="279828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8" name="직사각형 20"/>
          <p:cNvSpPr/>
          <p:nvPr/>
        </p:nvSpPr>
        <p:spPr>
          <a:xfrm>
            <a:off x="928800" y="3143160"/>
            <a:ext cx="7786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백분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개인의 검수를 다른 모든 학생들의 점수와 비교하여 나온 등위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9" name="타원 24"/>
          <p:cNvGrpSpPr/>
          <p:nvPr/>
        </p:nvGrpSpPr>
        <p:grpSpPr>
          <a:xfrm>
            <a:off x="858960" y="3316320"/>
            <a:ext cx="226800" cy="225360"/>
            <a:chOff x="858960" y="3316320"/>
            <a:chExt cx="226800" cy="225360"/>
          </a:xfrm>
        </p:grpSpPr>
        <p:pic>
          <p:nvPicPr>
            <p:cNvPr id="980" name="타원 24" descr=""/>
            <p:cNvPicPr/>
            <p:nvPr/>
          </p:nvPicPr>
          <p:blipFill>
            <a:blip r:embed="rId6"/>
            <a:stretch/>
          </p:blipFill>
          <p:spPr>
            <a:xfrm>
              <a:off x="858960" y="331632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1" name=""/>
            <p:cNvSpPr/>
            <p:nvPr/>
          </p:nvSpPr>
          <p:spPr>
            <a:xfrm rot="10800000">
              <a:off x="942840" y="336996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2" name="직사각형 21"/>
          <p:cNvSpPr/>
          <p:nvPr/>
        </p:nvSpPr>
        <p:spPr>
          <a:xfrm>
            <a:off x="928800" y="3676680"/>
            <a:ext cx="778644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준점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준화 점수에서 학생이 얼마나 잘했는지 표준편차를 기본단위로 해서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술한 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Z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점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평균값으로부터 몇 표준편차 만큼 떨어져 있는지에 관한 점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3" name="타원 22"/>
          <p:cNvGrpSpPr/>
          <p:nvPr/>
        </p:nvGrpSpPr>
        <p:grpSpPr>
          <a:xfrm>
            <a:off x="858960" y="3816360"/>
            <a:ext cx="226800" cy="225360"/>
            <a:chOff x="858960" y="3816360"/>
            <a:chExt cx="226800" cy="225360"/>
          </a:xfrm>
        </p:grpSpPr>
        <p:pic>
          <p:nvPicPr>
            <p:cNvPr id="984" name="타원 22" descr=""/>
            <p:cNvPicPr/>
            <p:nvPr/>
          </p:nvPicPr>
          <p:blipFill>
            <a:blip r:embed="rId7"/>
            <a:stretch/>
          </p:blipFill>
          <p:spPr>
            <a:xfrm>
              <a:off x="858960" y="381636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5" name=""/>
            <p:cNvSpPr/>
            <p:nvPr/>
          </p:nvSpPr>
          <p:spPr>
            <a:xfrm rot="10800000">
              <a:off x="942840" y="387000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6" name="TextBox 9" descr=""/>
          <p:cNvPicPr/>
          <p:nvPr/>
        </p:nvPicPr>
        <p:blipFill>
          <a:blip r:embed="rId1"/>
          <a:stretch/>
        </p:blipFill>
        <p:spPr>
          <a:xfrm>
            <a:off x="4730760" y="506520"/>
            <a:ext cx="4168800" cy="590400"/>
          </a:xfrm>
          <a:prstGeom prst="rect">
            <a:avLst/>
          </a:prstGeom>
          <a:ln w="0">
            <a:noFill/>
          </a:ln>
        </p:spPr>
      </p:pic>
      <p:sp>
        <p:nvSpPr>
          <p:cNvPr id="987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17CD9-8664-408B-9A39-DECC7A40B33C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8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989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990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쟁점 사항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9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9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9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9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97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8" name="그룹 43"/>
          <p:cNvGrpSpPr/>
          <p:nvPr/>
        </p:nvGrpSpPr>
        <p:grpSpPr>
          <a:xfrm>
            <a:off x="571680" y="1876320"/>
            <a:ext cx="8072280" cy="4981680"/>
            <a:chOff x="571680" y="1876320"/>
            <a:chExt cx="8072280" cy="4981680"/>
          </a:xfrm>
        </p:grpSpPr>
        <p:pic>
          <p:nvPicPr>
            <p:cNvPr id="999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98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00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1001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2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03" name="직사각형 19"/>
            <p:cNvSpPr/>
            <p:nvPr/>
          </p:nvSpPr>
          <p:spPr>
            <a:xfrm>
              <a:off x="928800" y="1991880"/>
              <a:ext cx="7669080" cy="13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의 다양성과 검사의 편파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검사 내용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절차 및 사용의 편파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4" name="타원 25"/>
          <p:cNvGrpSpPr/>
          <p:nvPr/>
        </p:nvGrpSpPr>
        <p:grpSpPr>
          <a:xfrm>
            <a:off x="835200" y="3078000"/>
            <a:ext cx="225360" cy="225720"/>
            <a:chOff x="835200" y="3078000"/>
            <a:chExt cx="225360" cy="225720"/>
          </a:xfrm>
        </p:grpSpPr>
        <p:pic>
          <p:nvPicPr>
            <p:cNvPr id="1005" name="타원 25" descr=""/>
            <p:cNvPicPr/>
            <p:nvPr/>
          </p:nvPicPr>
          <p:blipFill>
            <a:blip r:embed="rId5"/>
            <a:stretch/>
          </p:blipFill>
          <p:spPr>
            <a:xfrm>
              <a:off x="835200" y="3078000"/>
              <a:ext cx="22536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6" name=""/>
            <p:cNvSpPr/>
            <p:nvPr/>
          </p:nvSpPr>
          <p:spPr>
            <a:xfrm rot="10800000">
              <a:off x="915840" y="3137040"/>
              <a:ext cx="69840" cy="6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7" name="직사각형 21"/>
          <p:cNvSpPr/>
          <p:nvPr/>
        </p:nvSpPr>
        <p:spPr>
          <a:xfrm>
            <a:off x="928800" y="2928960"/>
            <a:ext cx="778644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대안적인 평가를 고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급 관찰 및 기타 사항을 고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목표와 기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미리 정한 교육목표 측정에 대한 동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시간이 많이 걸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타당도의 문제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9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1-03T23:57:37Z</dcterms:modified>
  <cp:revision>375</cp:revision>
  <dc:subject/>
  <dc:title>PowerPoint Template</dc:title>
</cp:coreProperties>
</file>